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5E4E-9395-4730-B300-0F1D9E390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d Aloud, Think Aloud, Vivid Piece of Text, Nonfiction Text: Making Comparisons, Showing Not Telling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verbs, Mental Images using 5 senses, Mental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ing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BDD-9FAC-4A91-BB1F-138AD6D6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96D-A3F9-41E7-8AB1-DDCE71B0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748-56B6-493F-98CC-CC9FEEE6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D8E-ADC8-432D-AFB1-3BC04B46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594-6C20-483D-8A1B-7ED8F25A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C4C-7C37-48E2-A12D-D066D09F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6CB-9378-42CB-81F6-11AE55DF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65F-D1E6-4AF4-A675-5E66C25E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B47-2CB1-4974-9C7D-2A440458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7FC-13C0-4A01-9F50-7AFD55B9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DDB-FD45-4D84-9F2A-0EB8D0C4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8D2-4B3B-4438-95FA-6168583A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4051-332C-4BD8-B08B-E5DF0AA3F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647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Make It Happen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Power of Communication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2007-2008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3434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4876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empus Sans ITC"/>
              </a:rPr>
              <a:t>Instructional Strategy- Inferring with Poet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486400" cy="4952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ear the Mas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Paul Laurence Dun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ar the mask that grins and li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ides our cheeks and shades our ey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ebt we pay to human guil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orn and bleeding hearts we smil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outh with myriad subtletie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should the world be overw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unting all our tears and sighs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y, let them only see us, wh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ar the mask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mile, but, O great Christ, our c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e from tortured souls ari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ing, but oh the clay is v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ath our feet, and long the mil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let the world dream otherw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ar the mask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457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Line or Quote from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457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My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304920"/>
            <a:ext cx="0" cy="624816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1981080"/>
            <a:ext cx="25146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November 15,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ent Literacy/Visualizing/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How do we get students to think about/through text? How can our use of visualizing and inferring as literacy strategies improve student achieve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ng – Constructing – Utilizing (I-C-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Tempus Sans ITC"/>
              </a:rPr>
              <a:t>November 15,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ent Literacy/Visualizing/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How do we get students to think about/through text? How can our use of visualizing and inferring as literacy strategies improve student achievemen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ng – Constructing – Utilizing (I-C-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Attention to Process:</a:t>
            </a: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Initia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Construct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Utilizing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t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iew and 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ate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ntify tex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without Comp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sts, Brainstorming, Graphically organizing, vocabulary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24480" y="1980720"/>
            <a:ext cx="2819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Demonstrat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says, reports, research papers, formal letters, expository/narrative/cre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828800"/>
            <a:ext cx="8076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1219320"/>
            <a:ext cx="1440" cy="533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1143000"/>
            <a:ext cx="1440" cy="533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981080"/>
            <a:ext cx="289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 with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r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riting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ic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d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tence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ick writes, journals, rough drafts, content notes, post-it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28600"/>
            <a:ext cx="3429000" cy="2133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empus Sans ITC"/>
              </a:rPr>
              <a:t>Visualizing –</a:t>
            </a:r>
            <a:r>
              <a:rPr b="0" lang="en-US" sz="3200" spc="-1" strike="noStrike">
                <a:solidFill>
                  <a:srgbClr val="ff3300"/>
                </a:solidFill>
                <a:latin typeface="Tempus Sans ITC"/>
              </a:rPr>
              <a:t>the reader paints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304920"/>
            <a:ext cx="44193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 text wi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shelf Symbol 3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et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shelf Symbol 3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phoric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shelf Symbol 3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nning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 create a mental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666880"/>
            <a:ext cx="36576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hing Gold Can Stay by Robert Fr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's first green is gol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hardest hue to hol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early leaf's a flow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so an hou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leaf subsides to leaf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Eden sank to grief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dawn goes down to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gold can st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76920" y="2819520"/>
            <a:ext cx="368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81480" y="3886200"/>
            <a:ext cx="3733920" cy="2963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Instructional Strategy -Visualizing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with Wordless Picture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ers use the pictures to make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missing pictures in their m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886200"/>
            <a:ext cx="3733560" cy="2963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290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Instructional Strategy- Visualizing through Read Aloud with a Vivid Piece of Text</a:t>
            </a: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9200" y="1523880"/>
            <a:ext cx="8067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hing Gold Can Stay by Robert Fr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's first green is gold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hardest hue to hol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early leaf's a flower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ly so an hou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leaf subsides to leaf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Eden sank to grief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dawn goes down to da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gold can st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Instructional Strategy-Visualizing to Create Mental Images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0040" y="2606400"/>
            <a:ext cx="3630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ing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39430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09880" cy="26672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Inferential Thinking-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ad Between the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360600"/>
            <a:ext cx="41148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-ended or unresol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pre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969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6480" y="838080"/>
            <a:ext cx="445752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empus Sans ITC"/>
              </a:rPr>
              <a:t>Instructional Strategy- Inferring from Illustrations an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1447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Arial"/>
              </a:rPr>
              <a:t>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14240" y="1828440"/>
            <a:ext cx="1981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676520"/>
            <a:ext cx="0" cy="49528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819520"/>
            <a:ext cx="43434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06:57Z</dcterms:created>
  <dc:creator>North Rockland High School</dc:creator>
  <dc:description/>
  <dc:language>en-US</dc:language>
  <cp:lastModifiedBy>North Rockland High School</cp:lastModifiedBy>
  <dcterms:modified xsi:type="dcterms:W3CDTF">2008-08-20T19:09:44Z</dcterms:modified>
  <cp:revision>7</cp:revision>
  <dc:subject/>
  <dc:title>Make It Happen  Power of Communication 2007-2008 </dc:title>
</cp:coreProperties>
</file>